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2F7-0CA9-4605-B52B-7E97B80D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934-A0DF-4363-9C9D-FA68C49F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4BF-B744-4DD6-B893-46698E1B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05A-BB8B-43AC-A123-9A0056FF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F42-3FC8-4A9F-BE83-E4478414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54F-F8AB-4F96-9234-5D12AD5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754-F005-450E-A042-36D7055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56B-85C9-4F25-BB57-DC54153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6B5-B016-46D5-AA71-38FA190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0F8-273F-4356-AC94-5BBE2FC9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1DD-BFA0-4DA2-BAEF-239DD1D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DC7-AEF7-44D6-819E-D335AA0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A6F-147C-4716-BE28-AFEC7CF0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1 Kristus, ktorý za nás trp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ktorý za nás trp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úbil, že sa vráti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 náš, Vykup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už o krátk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e svojej príde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e svojej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lý vesmír bude na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liatby hriechu zbav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dnú smrti mocné hradb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znie hlahol nadšený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 náš drahý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 náš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kovi patrí vďa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ti a slávy hoden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ľud ho s túžbou čak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deji na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už skoro, Pane, k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už skoro, Pane, k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3T07:18:59Z</dcterms:modified>
  <cp:revision>7</cp:revision>
  <dc:subject/>
  <dc:title>Je veľký náš Pán, on slávy je Kráľ Nech do všetkých strán  spev vrúcnych znie chvál.</dc:title>
</cp:coreProperties>
</file>